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36576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D29-C44B-4497-A17E-8C36E166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264276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65D-71E7-48AB-AE9D-B0D93B16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B58-56C4-4E15-ADD0-14A984CA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88F-7CC1-4333-9E93-717AF5EA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4AE-57BE-4078-BE5B-944F0EA1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12D-6C10-4C60-BFC7-3FD99861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EBE-4664-4608-BD40-734FE338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6C6-7293-425A-AB8C-56E8F242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182160"/>
            <a:ext cx="329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BC0-7868-4DC0-9847-0A90BB52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69A-0338-4EAC-BE35-B1AAE352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36A-D8E6-4D14-9DB6-2B777F0C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A66-8E75-4BF4-8131-A036477E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2680" indent="-147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7520" indent="-117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22240" indent="-1173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4164120"/>
            <a:ext cx="85428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4164120"/>
            <a:ext cx="115920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4164120"/>
            <a:ext cx="85428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CA277164-8C21-4F68-A0B0-544D5A4B86AE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1420560"/>
            <a:ext cx="3108240" cy="9795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2400" y="254160"/>
            <a:ext cx="33526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6720" y="2590560"/>
            <a:ext cx="2711520" cy="1168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>
              <a:spcBef>
                <a:spcPts val="125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5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5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21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160" y="1066320"/>
            <a:ext cx="1616040" cy="23367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073240" y="965160"/>
            <a:ext cx="14479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21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520" y="1066680"/>
            <a:ext cx="3200400" cy="1727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</cp:lastModifiedBy>
  <dcterms:modified xsi:type="dcterms:W3CDTF">2012-06-19T11:25:4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